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F89-7BE4-48D6-B29A-97BC59BB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A9E-C029-4EAE-995E-2DD1DA49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5E3-C7B0-469E-92C9-29B9171B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C0D-80C0-4573-AA4C-96F089BC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991-0C75-43E9-8169-2A154C9F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7E3-E6FA-400A-9BAF-1DE7F9C7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563-E50F-4889-8F85-AD459893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B75-DEAA-40B4-B71C-F82A731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8BF-ECE8-4CAA-913E-1C66B791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229-4B51-40CC-B05D-E5232D8D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C49-D908-4B00-A686-542D4EF5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095-B114-4B4A-9C47-49A37474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ED67-4528-4CF5-9402-7B5A2D631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82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 reduce to 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com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2 + vi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50 + b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75 +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T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3 and suc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62280"/>
            <a:ext cx="82296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martphone (exit seg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term challenge, no good way to low  cost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problems with software features in  mid-term (price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-house ultra low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2G feature phones to focus on 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2:42:37Z</dcterms:created>
  <dc:creator>Dingle Rick</dc:creator>
  <dc:description/>
  <dc:language>en-US</dc:language>
  <cp:lastModifiedBy>Dingle Rick</cp:lastModifiedBy>
  <dcterms:modified xsi:type="dcterms:W3CDTF">2004-12-03T12:44:28Z</dcterms:modified>
  <cp:revision>1</cp:revision>
  <dc:subject/>
  <dc:title>Cost Reduction</dc:title>
</cp:coreProperties>
</file>